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689-915B-4AFE-A6AF-A2C3F236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B4F-6B8D-4FCE-88F3-5B989FB9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CE3-A53A-4875-89A8-22BE0008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75C-9C5B-4F15-A3E9-1FD376AC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DD0-C0B1-42C6-9A67-74C63700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AA4-4E5B-4B7B-A3C5-DF91DF27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D25-81CC-4F01-BED7-B71AE96A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6B9-7D36-46ED-925D-D3CB29B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A61-8EBE-4C59-AAA9-907229D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21A-A97E-40F5-9D9F-E3CEE8A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18E-8073-44E6-B580-33B4600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C31-BD69-4FEE-A4CD-97D1AFDB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E9BD-7815-492C-BB46-FA116B5B4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url?q=http://en.wikipedia.org/wiki/PODcasting&amp;ei=JX_6SrrRBdXVlAfeuIy6Aw&amp;sa=X&amp;oi=define&amp;ct=&amp;cd=1&amp;ved=0CBgQpAMoAA&amp;usg=AFQjCNEFQymaJb8_laX7YU5If5N-_bRPpA" TargetMode="External"/><Relationship Id="rId2" Type="http://schemas.openxmlformats.org/officeDocument/2006/relationships/hyperlink" Target="http://www.google.com/url?q=http://en.wiktionary.org/wiki/podcasting&amp;ei=JX_6SrrRBdXVlAfeuIy6Aw&amp;sa=X&amp;oi=define&amp;ct=&amp;cd=1&amp;ved=0CBkQpAMoAQ&amp;usg=AFQjCNEzjYwpSRgwyHyLuF_TtDnjUpGFIQ" TargetMode="External"/><Relationship Id="rId3" Type="http://schemas.openxmlformats.org/officeDocument/2006/relationships/hyperlink" Target="http://www.google.com/url?q=http://en.wiktionary.org/wiki/podcasting&amp;ei=JX_6SrrRBdXVlAfeuIy6Aw&amp;sa=X&amp;oi=define&amp;ct=&amp;cd=1&amp;ved=0CBkQpAMoAQ&amp;usg=AFQjCNEzjYwpSRgwyHyLuF_TtDnjUpGFIQ" TargetMode="External"/><Relationship Id="rId4" Type="http://schemas.openxmlformats.org/officeDocument/2006/relationships/hyperlink" Target="http://www.google.com/url?q=http://en.wiktionary.org/wiki/podcast&amp;ei=JX_6SrrRBdXVlAfeuIy6Aw&amp;sa=X&amp;oi=define&amp;ct=&amp;cd=1&amp;ved=0CBoQpAMoAg&amp;usg=AFQjCNFCFImSC3wIxUEX99-xlM7p-W_Wfw" TargetMode="External"/><Relationship Id="rId5" Type="http://schemas.openxmlformats.org/officeDocument/2006/relationships/hyperlink" Target="http://www.google.com/url?q=http://en.wiktionary.org/wiki/podcast&amp;ei=JX_6SrrRBdXVlAfeuIy6Aw&amp;sa=X&amp;oi=define&amp;ct=&amp;cd=1&amp;ved=0CBoQpAMoAg&amp;usg=AFQjCNFCFImSC3wIxUEX99-xlM7p-W_Wfw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8001" r="0" b="10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odcas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podcast is a series of digital media files, usually either digital audio or video, that is made available for download via web syndication. ...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en.wikipedia.org/wiki/PODcasting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distribution of multimedia files over the Internet for playback on a mobile device, often in MP3 format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en.wiktionary.or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/wiki/podcasting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odcast - An audio programme in a compressed digital format, delivered via an RSS feed over the Internet to a subscriber and designed for playback on ...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4"/>
              </a:rPr>
              <a:t>en.wiktionary.or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/wiki/podcast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akes a good Podca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a few clues to what the Sony judges looked for in a good podcast (based on comments about the winn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“pace and energy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ture “the intimacy of internet radi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ose a niche which would “never be accommodated on a mainstream radio stati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-class radio production technique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n intelligent and witty t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rh.typepad.com/blog/2007/05/what_makes_a_go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a’s Podc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23511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47920"/>
            <a:ext cx="3957480" cy="3500280"/>
          </a:xfrm>
          <a:prstGeom prst="rect">
            <a:avLst/>
          </a:prstGeom>
          <a:solidFill>
            <a:srgbClr val="339966">
              <a:alpha val="3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izing Data Sheets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dbean.com/home/podcast-directory-play.php?eid=21692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828800" cy="92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28954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pisode explains what data sheets are and just like the IEP, data sheets should also be individu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838440" cy="72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43600" y="167652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expl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link to their website that show an example of a data she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723960" cy="68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19920" y="3886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music is loud.  Hard to listen to the announcement for the website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54100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 find this audio podcast really good.  Very informative.  This is useful for parents who have children with IEP (Individualized Educational Progra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57200" y="5334120"/>
            <a:ext cx="13082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1681200"/>
            <a:ext cx="3957840" cy="3500280"/>
          </a:xfrm>
          <a:prstGeom prst="rect">
            <a:avLst/>
          </a:prstGeom>
          <a:solidFill>
            <a:srgbClr val="339966">
              <a:alpha val="3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ffee Break Spanish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 01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tunes.apple.com/WebObjects/MZStore.woa/wa/viewPodcast?id=201598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727280"/>
            <a:ext cx="259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sson teaches the audience how to say “hello” and ask people how they are feeling using simple, easy-to-learn phr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121932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3600" y="1671480"/>
            <a:ext cx="32004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audience a chance to practice or speak after the nar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explains the variation of accents of different Spanish 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4500720"/>
            <a:ext cx="723960" cy="680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9920" y="43718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ly audio.  Have to purchase the booklet if you want a copy of the list of words and phr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79132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ike listening to this podcast.  Very informative and interesting.  Vamos hablar Espano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1384200" cy="122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cbs-09-final"/>
          <p:cNvPicPr/>
          <p:nvPr/>
        </p:nvPicPr>
        <p:blipFill>
          <a:blip r:embed="rId4"/>
          <a:stretch/>
        </p:blipFill>
        <p:spPr>
          <a:xfrm>
            <a:off x="304920" y="1981080"/>
            <a:ext cx="1143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604880"/>
            <a:ext cx="3957480" cy="3500640"/>
          </a:xfrm>
          <a:prstGeom prst="rect">
            <a:avLst/>
          </a:prstGeom>
          <a:solidFill>
            <a:srgbClr val="339966">
              <a:alpha val="3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istic and Healthy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dbean.com/home/podcast-directory-play.php?pid=41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0001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hort podcast aims to give inspiration to the parents of special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838440" cy="72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43600" y="167652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audio and the speaker speaks clea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723960" cy="68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9920" y="3257640"/>
            <a:ext cx="28954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ll.  Would had been better if there is some background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s “x” factor to be inspirational.  Narrator speaks fast and obviously just reading the 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7150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this episode is okay.  I haven’t had the chance to listen to other episod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1447920" cy="281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5715000"/>
            <a:ext cx="64476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8669" r="0" b="11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57:57Z</dcterms:created>
  <dc:creator>Maria.Bagadion</dc:creator>
  <dc:description/>
  <dc:language>en-US</dc:language>
  <cp:lastModifiedBy>Maria.Bagadion</cp:lastModifiedBy>
  <dcterms:modified xsi:type="dcterms:W3CDTF">2009-11-11T19:11:21Z</dcterms:modified>
  <cp:revision>23</cp:revision>
  <dc:subject/>
  <dc:title>Slide 1</dc:title>
</cp:coreProperties>
</file>